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A5C5-89E2-44AD-8F72-3613EDA2F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55DA-7BB5-4A8F-94BB-A69A846F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3B77-6182-4431-B319-B0D463E1F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2281-4527-498A-BD46-C06D9002F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8A1D-5405-4B87-BEA7-7EC87AD31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A6FC-61F7-4C83-968A-1528E74F5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A875-37B8-4D07-AF91-CDE3D4704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F421-C277-4A48-A34B-E07E47087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9719-9101-4BD9-A658-6EB2EF6AD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BFCF-B497-4BEF-8630-827F762B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D81C-97F4-4E6A-8B60-41D63322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94DD-76E0-488B-8B05-2E06BD81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FA1DB-9133-42C9-B884-E2DEC8110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lideshare.net/tesztvivien/sszefztt-szigorlati-ttelek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9185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lyen készségek szükségesek a nyílt tartalmak a felsőoktatásban történő használatához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63280" y="5157360"/>
            <a:ext cx="600876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idékiné Reményi Ju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gyetemi doc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ME Műszaki Pedagógia Tanszé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remenyi.j@eik. bme.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2421000"/>
            <a:ext cx="4768920" cy="2636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425840" y="2421000"/>
            <a:ext cx="471816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nyílt tartalmak (nem MOOC) „fogyaszthatósága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Arial"/>
              </a:rPr>
              <a:t>AZ INFORMÁCIÓ NEM TUDÁ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Arial"/>
              </a:rPr>
              <a:t>A nyílt tudástartalmak a tudás architektúrába történő beépítése – az info feldolgozása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Arial"/>
              </a:rPr>
              <a:t>Az online környezetben történő önirányított tanuláshoz meghatározott személyiségjegyek és készségek szükségesek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Arial"/>
              </a:rPr>
              <a:t>A személyiségjegyek tanulással, fejlesztéssel jelentősen nem változtathatók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Arial"/>
              </a:rPr>
              <a:t>A készségek tanulhatók, fejleszthetők. – Tanári feladat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5209-266B-42C5-891C-6D0F3B81004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A szükséges személyiségjegy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Arial"/>
              </a:rPr>
              <a:t>Önfegyelem, önkontrol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Arial"/>
              </a:rPr>
              <a:t>Reális önértékelé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Arial"/>
              </a:rPr>
              <a:t>Magas frusztráció-toleranci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Arial"/>
              </a:rPr>
              <a:t>Kitartás, céltudatosság, rendszeressé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Arial"/>
              </a:rPr>
              <a:t>Módszeressé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Arial"/>
              </a:rPr>
              <a:t>Felelősségteljessé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Arial"/>
              </a:rPr>
              <a:t>Kreativitá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Arial"/>
              </a:rPr>
              <a:t>Problémamegoldá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Arial"/>
              </a:rPr>
              <a:t>Önmotiváltsá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Arial"/>
              </a:rPr>
              <a:t>Gyors dönté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Arial"/>
              </a:rPr>
              <a:t>Időgazdálkodá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Arial"/>
              </a:rPr>
              <a:t>Nyitottsá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Arial"/>
              </a:rPr>
              <a:t>Elkötelezettsé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235E-D7A3-47BA-95C2-C6D3862E083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A szükséges készségek – tanulóknak</a:t>
            </a: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 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édia- és digitális jártassá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Új alkalmazások használatának elsajátít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igitális kommunik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IKT tanulási célú alkalmaz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anulási keretrendszerek használ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Web böngésző használ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Repozitoriumok használ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etadata ismer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Arial"/>
              </a:rPr>
              <a:t>Információ jártassá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Arial"/>
              </a:rPr>
              <a:t>Vizuális jártassá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ED07-6602-4859-A7B4-D87E2A259A7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A szükséges készségek – tanulóknak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zó- és írásbeli kommunikációs készség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unkcionális írástud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ngol szaknyelvtud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Önálló tanulási készség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anulási szükségletek elemzé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imeneti követelmények megérté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zükségletek és kimeneti követelmények megfeleltetése egymás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anulási stílus ismere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Önértékel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Önreflexi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Logikus gondolkod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ollaborációs készsé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300720" y="4292640"/>
            <a:ext cx="1982880" cy="198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6527-7F6C-47F2-9A1A-4B3854ABE1D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A szükséges készségek – tanároknak 1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Arial"/>
              </a:rPr>
              <a:t>A nyílt tanulási tartalmak használata nem biztosít visszacsatolást a képzőintézménynek / a tananyagfejlesztőnek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ananyagfejlesztői / írói készség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anulási folyamat modellez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élcsoport elem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élok és követelmények megfogalmaz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anulási tevékenységek tervezése, fejlesz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ontextusfüggetlenné tenni a tananyagok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0A62-06C9-41A5-B4BD-6885B80CBA5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A szükséges készségek – tanároknak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Arial"/>
              </a:rPr>
              <a:t>Digitális jártassá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eghatározott tanulási tartalmak keresése</a:t>
            </a: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Arial"/>
              </a:rPr>
              <a:t>Tanulási tartalmak felhasználása, integrálása a kurzus tananyagába, a megfelelő kiegészítésekk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ano-tanulási egységek felhasznál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D82C-ED2D-43DB-AFA5-85D71D5A502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Esettanulmány a múkolásró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z eset: MIT MOOC kurzus elvégzé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zükséges: önfegyelem, gyors döntési képesség, elszántsá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úkolni olyan mint résztvenni egy bajnokságon, amin te vagy a játékos és a közönség i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01EC-2C71-4476-B8A7-B55C4993470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öszönöm a figyelm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képek forrása: Google Im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C280-081C-4ED8-99E5-FEC0117F507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 prezentáció tartal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000000"/>
                </a:solidFill>
                <a:latin typeface="Arial"/>
              </a:rPr>
              <a:t>Nyílt tartalo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000000"/>
                </a:solidFill>
                <a:latin typeface="Arial"/>
              </a:rPr>
              <a:t>Kezdete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000000"/>
                </a:solidFill>
                <a:latin typeface="Arial"/>
              </a:rPr>
              <a:t>A nyílt tartalmak térnyerésének feltétele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000000"/>
                </a:solidFill>
                <a:latin typeface="Arial"/>
              </a:rPr>
              <a:t>A nyílt tartalmak típusa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000000"/>
                </a:solidFill>
                <a:latin typeface="Arial"/>
              </a:rPr>
              <a:t>A nyílt tartalmak elérhetősé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000000"/>
                </a:solidFill>
                <a:latin typeface="Arial"/>
              </a:rPr>
              <a:t>A tanulás forradalmát éljük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000000"/>
                </a:solidFill>
                <a:latin typeface="Arial"/>
              </a:rPr>
              <a:t>Egy péld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000000"/>
                </a:solidFill>
                <a:latin typeface="Arial"/>
              </a:rPr>
              <a:t>A nyílt tartalmak „fogyaszthatósága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000000"/>
                </a:solidFill>
                <a:latin typeface="Arial"/>
              </a:rPr>
              <a:t>Szükséges személyiségjegye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000000"/>
                </a:solidFill>
                <a:latin typeface="Arial"/>
              </a:rPr>
              <a:t>Szükséges készsége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000000"/>
                </a:solidFill>
                <a:latin typeface="Arial"/>
              </a:rPr>
              <a:t>Esettanulmány a „múkolásról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1AD3-5EB8-4299-BC64-A48B7D818D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yílt tartal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Arial"/>
              </a:rPr>
              <a:t>Nyílt / nyitott tartalom, szabad felhasználású tartalom, nyílt forrású/ingyenes oktatási tartalom, nyílt oktatási források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Arial"/>
              </a:rPr>
              <a:t>Meghatározott oktatási céllal készült, önállóan felhasználható, összeilleszthető, újrahasznosítható, metaadatokat tartalmazó anyag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G. Fulantelli, P. Ravotto - TeNeGEN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Arial"/>
              </a:rPr>
              <a:t>ÚjraTananya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Arial"/>
              </a:rPr>
              <a:t>felhasználható, szerkeszthető, szétszedhető és összerakható, (át)írható, teríthető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73280" cy="1305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527880" y="0"/>
            <a:ext cx="2616120" cy="132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D652-994C-485C-AF45-D8364B8E62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kezdet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Arial"/>
              </a:rPr>
              <a:t>2002, UNESCO fórum: "A Nyílt Kurzusanyagok hatása a felsőoktatásra a fejlődő országokban„ egyezmény az "univerzális oktatási forrás gyűjtemény" fejlesztésérő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Arial"/>
              </a:rPr>
              <a:t>Univerzális oktatási forrás gyűjtemény = "Nyílt Tananyag Források„ (Open Educational Resources – OER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Arial"/>
              </a:rPr>
              <a:t>Massachusetts Technológiai Intézet (MIT) 2002-ben OpenCourseWare néven elérhetővé tette a képzéseit a weben (Creative Commons) - MOOC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024680" y="0"/>
            <a:ext cx="2062080" cy="2062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727360" cy="1955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1C82-FD48-42CA-8F3E-256D007844B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nyílt tartalmak térnyerésének feltétele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Arial"/>
              </a:rPr>
              <a:t>90-es évek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700" spc="-1" strike="noStrike">
                <a:solidFill>
                  <a:srgbClr val="000000"/>
                </a:solidFill>
                <a:latin typeface="Arial"/>
              </a:rPr>
              <a:t>a pedagógia drámai professzionalizációj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Arial"/>
              </a:rPr>
              <a:t>Elitegyetemek összefogás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Arial"/>
              </a:rPr>
              <a:t>Technofetisizmus - technológiai hátté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artalommegosztás csatornái (Slideshare, 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urzusfejlesztés keretrendszere (Goog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egosztási portál (Connec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özös projektmunka lehetősége (Skype, Huawei telepres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Arial"/>
              </a:rPr>
              <a:t>Szakdolgozati adatbáz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Arial"/>
              </a:rPr>
              <a:t>Önszabályozó tanulás előtérbe kerülé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Arial"/>
              </a:rPr>
              <a:t>Tanulási stílusok előtérbe kerülé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E122-DC33-4654-A078-93A9B2DD42F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A nyílt tartalmak típusa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2 típus: „tesztelt” és „nem tesztel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gyetemi kurzusok (teljes) tananyag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antervek, tanmenetek, órai diák, órákról készített felvételek, modulok, tananyagelem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Órai jegyzetek, beadandó feladatok, dolgozatok, „gyűjtemények”, kidolgozott tétel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Írott-, kép- és hanganyagok, animáció st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5050"/>
                </a:solidFill>
                <a:uFillTx/>
                <a:latin typeface="Arial"/>
                <a:hlinkClick r:id="rId1"/>
              </a:rPr>
              <a:t>http://www.slideshare.net/tesztvivien/sszefztt-szigorlati-ttel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ttp://www.mesterek.bme.hu/szigorlat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90D1-D25F-440D-B270-2936C6DD43E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nyílt tartalmak elérhetősé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Arial"/>
              </a:rPr>
              <a:t>Digitális repozitoriumok (digitális tartalom kezelését és tárolását szolgáló mechanizmusok)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IT OpenCourse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OER Comm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ERL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Connex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GLO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Curri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OpenCoursware Consorti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DR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WikiEducator oldalá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http://wikieducator.org/Exemplary_Collection_of_Open_eLearning_Content_Reposit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148360" y="2924280"/>
            <a:ext cx="3073320" cy="243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DD83-514B-4185-8C19-5D6E83C92B4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A MIT OpenCourseWare használ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Arial"/>
              </a:rPr>
              <a:t>2016. április 6-ai adatok szerint az OCW-t havonta több mint 2 millióan </a:t>
            </a:r>
            <a:r>
              <a:rPr b="0" i="1" lang="hu-HU" sz="2700" spc="-1" strike="noStrike">
                <a:solidFill>
                  <a:srgbClr val="000000"/>
                </a:solidFill>
                <a:latin typeface="Arial"/>
              </a:rPr>
              <a:t>keresik fel</a:t>
            </a:r>
            <a:r>
              <a:rPr b="0" lang="hu-HU" sz="2700" spc="-1" strike="noStrike">
                <a:solidFill>
                  <a:srgbClr val="000000"/>
                </a:solidFill>
                <a:latin typeface="Arial"/>
              </a:rPr>
              <a:t>, a látogatók fele Észak-Amerikán kívül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ducator=taná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tudent=hallgat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elf Learner=önművel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Other=egyé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statsuse.jpg"/>
          <p:cNvPicPr/>
          <p:nvPr/>
        </p:nvPicPr>
        <p:blipFill>
          <a:blip r:embed="rId1"/>
          <a:stretch/>
        </p:blipFill>
        <p:spPr>
          <a:xfrm>
            <a:off x="4356000" y="3213000"/>
            <a:ext cx="3943440" cy="248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6EE9-D97A-4740-A9D2-8FFCBDBC885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A tanulás forradalmát éljü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yílt tanulási tartalmak = kreatív rombolás – romboló innováció = „tanforr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Globális tudástermelés és elosztás ko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gyetemi tudásmonopóliumok korszakának vé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em pótolja a rendezett alapismereteket - posztmodern tudásgranulátum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iányoznak a rendezett tanulási utak, a tudás rendszerez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asszív készséghiány a felhasználók oldal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eljesítményelv mint társadalmi ideológiai báz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010280" y="0"/>
            <a:ext cx="2133720" cy="160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575A-F53B-4018-A707-2D062D921E9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4T09:58:02Z</dcterms:created>
  <dc:creator>Vidékiné Reményi Judit</dc:creator>
  <dc:description/>
  <dc:language>en-US</dc:language>
  <cp:lastModifiedBy>Vidékiné Reményi Judit</cp:lastModifiedBy>
  <dcterms:modified xsi:type="dcterms:W3CDTF">2016-04-07T11:35:16Z</dcterms:modified>
  <cp:revision>26</cp:revision>
  <dc:subject/>
  <dc:title>Milyen készségek szükségesek a nyílt tartalmak a felsőoktatásban történő használatához </dc:title>
</cp:coreProperties>
</file>